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6C3-6D5B-403F-AB6F-D11DF8DD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21C-1496-490C-93A5-298126F0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2A8-3BA0-4D66-95EF-98974BC3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649-2AE8-4091-8719-1039FD3D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E92-C98D-4127-848A-3DC46AB4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AAD-82A5-413A-B681-7637A65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86C-2058-4C4E-A5CA-386D3F4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92F-A01C-4A0B-8343-95683E45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02F-0602-417A-A4F4-468068ED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32F-80B6-468E-86C8-E05D4AB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8A0-48CC-4CF5-AF52-5EF7FE5F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75E-3FE2-4A89-85CD-A28D123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12F-7C65-43B3-9A67-8B4C0CBBC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304920"/>
          <a:ext cx="8610480" cy="5705280"/>
        </p:xfrm>
        <a:graphic>
          <a:graphicData uri="http://schemas.openxmlformats.org/drawingml/2006/table">
            <a:tbl>
              <a:tblPr/>
              <a:tblGrid>
                <a:gridCol w="2152800"/>
                <a:gridCol w="2266920"/>
                <a:gridCol w="1752480"/>
                <a:gridCol w="2438280"/>
              </a:tblGrid>
              <a:tr h="365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FT ACTIVITY ON FR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nsidered Part of the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per 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ciliation Le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 More Alike than 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mplified 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n-Simplified 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Service Announc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e for Simpl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st Common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rsery Rhy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the Greates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Fr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Equival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Find Your Soul 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Common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Sets of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maller the Be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 Denominators in an Additional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 Denominators in an Addition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come A Like 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xed Number that Needs to be Renamed to Subtr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Math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My New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 Denominators in a Subtraction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 Denominators in a Subtraction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Become a Like 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ouble the Rec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s/Mixed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ce Colu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come Well Rou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9:00:05Z</dcterms:created>
  <dc:creator>CABELL BOE</dc:creator>
  <dc:description/>
  <dc:language>en-US</dc:language>
  <cp:lastModifiedBy>CABELL BOE</cp:lastModifiedBy>
  <dcterms:modified xsi:type="dcterms:W3CDTF">2009-06-01T19:00:45Z</dcterms:modified>
  <cp:revision>2</cp:revision>
  <dc:subject/>
  <dc:title>Slide 1</dc:title>
</cp:coreProperties>
</file>